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64.jpeg" ContentType="image/jpeg"/>
  <Override PartName="/ppt/media/image1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21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65.jpeg" ContentType="image/jpeg"/>
  <Override PartName="/ppt/media/image8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34.png" ContentType="image/pn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1.png" ContentType="image/png"/>
  <Override PartName="/ppt/media/image33.png" ContentType="image/png"/>
  <Override PartName="/ppt/media/image56.jpeg" ContentType="image/jpeg"/>
  <Override PartName="/ppt/media/image35.png" ContentType="image/png"/>
  <Override PartName="/ppt/media/image43.jpeg" ContentType="image/jpeg"/>
  <Override PartName="/ppt/media/image37.png" ContentType="image/png"/>
  <Override PartName="/ppt/media/image40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0F4-D992-4BAC-9DEC-B65A284B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E54-64C8-4ABB-84D2-E1792C71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B09-9995-4D1E-BB71-61EB58DA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01D-5BB5-46A0-B01D-75EE505D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0AC-7D9C-440F-AE34-2CEFA8F2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3C1-DFB9-4C5A-A78E-77B0266E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DF0-50EB-44B1-AFEF-809F2076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A81-531C-4B27-9C37-3BB6D53F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526-6AF7-45D0-8CD9-1A02D406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DEA-14BB-4EA0-809C-F7AE12C8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630-EE73-4206-A0AF-FF1762C1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6BE-721C-4FA3-AB6E-905716E8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92B8-9FFA-41DE-83D9-413315A02F41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CEA Niveau 1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Les adjectifs qu’il faut apprendre!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gentil / gentill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Ma mère est très gentille - elle aide tout le mond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sag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es enfants sont sages - ils se comportent bien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seu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’est le seul enfant - l’enfant uniqu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malad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Si on est malade, on reste à la maison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Beauté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Johnny est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beau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, je crois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Oui, c’est un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bel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homme!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t Marilyn était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bell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, n’est-ce pas?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1" name="Picture 6" descr="johnny depp2"/>
          <p:cNvPicPr/>
          <p:nvPr/>
        </p:nvPicPr>
        <p:blipFill>
          <a:blip r:embed="rId1"/>
          <a:stretch/>
        </p:blipFill>
        <p:spPr>
          <a:xfrm>
            <a:off x="1798560" y="1981080"/>
            <a:ext cx="158292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102" name="Picture 7" descr="marilyn_monroe"/>
          <p:cNvPicPr/>
          <p:nvPr/>
        </p:nvPicPr>
        <p:blipFill>
          <a:blip r:embed="rId2"/>
          <a:stretch/>
        </p:blipFill>
        <p:spPr>
          <a:xfrm>
            <a:off x="1778040" y="4114800"/>
            <a:ext cx="162396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t Cameron - elle est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bell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ou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joli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Alain n’est pas trè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beau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, à mon avis. Mais il chante bien!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7" name="Picture 6" descr="cameron 2"/>
          <p:cNvPicPr/>
          <p:nvPr/>
        </p:nvPicPr>
        <p:blipFill>
          <a:blip r:embed="rId1"/>
          <a:stretch/>
        </p:blipFill>
        <p:spPr>
          <a:xfrm>
            <a:off x="5810400" y="1981080"/>
            <a:ext cx="148572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108" name="Picture 7" descr="Alain Souchon"/>
          <p:cNvPicPr/>
          <p:nvPr/>
        </p:nvPicPr>
        <p:blipFill>
          <a:blip r:embed="rId2"/>
          <a:stretch/>
        </p:blipFill>
        <p:spPr>
          <a:xfrm>
            <a:off x="5759280" y="4114800"/>
            <a:ext cx="158616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’argent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et homme est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pauvre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Et cet homme est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riche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3" name="Picture 6" descr="sdf 5"/>
          <p:cNvPicPr/>
          <p:nvPr/>
        </p:nvPicPr>
        <p:blipFill>
          <a:blip r:embed="rId1"/>
          <a:stretch/>
        </p:blipFill>
        <p:spPr>
          <a:xfrm>
            <a:off x="5378400" y="1981080"/>
            <a:ext cx="234972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114" name="Picture 7" descr="tom cruise"/>
          <p:cNvPicPr/>
          <p:nvPr/>
        </p:nvPicPr>
        <p:blipFill>
          <a:blip r:embed="rId2"/>
          <a:stretch/>
        </p:blipFill>
        <p:spPr>
          <a:xfrm>
            <a:off x="5484960" y="4114800"/>
            <a:ext cx="213516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Âges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jeun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ci, Brigitte est jeun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vieux/vieil/vieill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Maintenant elle est vieill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9" name="Picture 6" descr="BB young"/>
          <p:cNvPicPr/>
          <p:nvPr/>
        </p:nvPicPr>
        <p:blipFill>
          <a:blip r:embed="rId1"/>
          <a:stretch/>
        </p:blipFill>
        <p:spPr>
          <a:xfrm>
            <a:off x="5769000" y="1981080"/>
            <a:ext cx="156852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120" name="Picture 7" descr="BB old"/>
          <p:cNvPicPr/>
          <p:nvPr/>
        </p:nvPicPr>
        <p:blipFill>
          <a:blip r:embed="rId2"/>
          <a:stretch/>
        </p:blipFill>
        <p:spPr>
          <a:xfrm>
            <a:off x="5892840" y="4114800"/>
            <a:ext cx="131904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es tailles des gens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572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petit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grand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   gros/se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mince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   rond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Voici un grand homme avec deux petites femmes.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Cet homme à gauche est gros (rond)...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et celui à droite est mince.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Pour la plupart, nous sommes de taille 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Verdana"/>
              </a:rPr>
              <a:t>moyenne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5" name="Picture 4" descr="tall &amp; short 2"/>
          <p:cNvPicPr/>
          <p:nvPr/>
        </p:nvPicPr>
        <p:blipFill>
          <a:blip r:embed="rId1"/>
          <a:stretch/>
        </p:blipFill>
        <p:spPr>
          <a:xfrm>
            <a:off x="1295280" y="2590920"/>
            <a:ext cx="833400" cy="1155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fat man"/>
          <p:cNvPicPr/>
          <p:nvPr/>
        </p:nvPicPr>
        <p:blipFill>
          <a:blip r:embed="rId2"/>
          <a:stretch/>
        </p:blipFill>
        <p:spPr>
          <a:xfrm>
            <a:off x="990720" y="4114800"/>
            <a:ext cx="895320" cy="1084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thin man"/>
          <p:cNvPicPr/>
          <p:nvPr/>
        </p:nvPicPr>
        <p:blipFill>
          <a:blip r:embed="rId3"/>
          <a:stretch/>
        </p:blipFill>
        <p:spPr>
          <a:xfrm>
            <a:off x="6781680" y="4114800"/>
            <a:ext cx="71604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Adjectifs d’émotion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passionnant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nquiet/inquièt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heureux/heureus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ontent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malheureux/malheureus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rist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fatigué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amusant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drôl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32" name="Picture 5" descr="worried 2"/>
          <p:cNvPicPr/>
          <p:nvPr/>
        </p:nvPicPr>
        <p:blipFill>
          <a:blip r:embed="rId1"/>
          <a:stretch/>
        </p:blipFill>
        <p:spPr>
          <a:xfrm>
            <a:off x="7391520" y="1981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appy"/>
          <p:cNvPicPr/>
          <p:nvPr/>
        </p:nvPicPr>
        <p:blipFill>
          <a:blip r:embed="rId2"/>
          <a:stretch/>
        </p:blipFill>
        <p:spPr>
          <a:xfrm>
            <a:off x="4419720" y="27432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bored"/>
          <p:cNvPicPr/>
          <p:nvPr/>
        </p:nvPicPr>
        <p:blipFill>
          <a:blip r:embed="rId3"/>
          <a:stretch/>
        </p:blipFill>
        <p:spPr>
          <a:xfrm>
            <a:off x="2895480" y="4191120"/>
            <a:ext cx="573120" cy="57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sad"/>
          <p:cNvPicPr/>
          <p:nvPr/>
        </p:nvPicPr>
        <p:blipFill>
          <a:blip r:embed="rId4"/>
          <a:stretch/>
        </p:blipFill>
        <p:spPr>
          <a:xfrm>
            <a:off x="5486400" y="3733920"/>
            <a:ext cx="573120" cy="573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laugh"/>
          <p:cNvPicPr/>
          <p:nvPr/>
        </p:nvPicPr>
        <p:blipFill>
          <a:blip r:embed="rId5"/>
          <a:stretch/>
        </p:blipFill>
        <p:spPr>
          <a:xfrm>
            <a:off x="3352680" y="1828800"/>
            <a:ext cx="573120" cy="573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yay"/>
          <p:cNvPicPr/>
          <p:nvPr/>
        </p:nvPicPr>
        <p:blipFill>
          <a:blip r:embed="rId6"/>
          <a:stretch/>
        </p:blipFill>
        <p:spPr>
          <a:xfrm>
            <a:off x="3352680" y="50292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fâché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désolé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paresseux/paresseus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agréabl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l a l’air agréabl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t lui, il a l’air désagréabl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4" marL="1995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42" name="Picture 4" descr="angry mohawk"/>
          <p:cNvPicPr/>
          <p:nvPr/>
        </p:nvPicPr>
        <p:blipFill>
          <a:blip r:embed="rId1"/>
          <a:stretch/>
        </p:blipFill>
        <p:spPr>
          <a:xfrm>
            <a:off x="2666880" y="2057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daydreamer"/>
          <p:cNvPicPr/>
          <p:nvPr/>
        </p:nvPicPr>
        <p:blipFill>
          <a:blip r:embed="rId2"/>
          <a:stretch/>
        </p:blipFill>
        <p:spPr>
          <a:xfrm>
            <a:off x="5105520" y="2895480"/>
            <a:ext cx="1047600" cy="868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appy scot"/>
          <p:cNvPicPr/>
          <p:nvPr/>
        </p:nvPicPr>
        <p:blipFill>
          <a:blip r:embed="rId3"/>
          <a:stretch/>
        </p:blipFill>
        <p:spPr>
          <a:xfrm>
            <a:off x="2819520" y="38862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angry2"/>
          <p:cNvPicPr/>
          <p:nvPr/>
        </p:nvPicPr>
        <p:blipFill>
          <a:blip r:embed="rId4"/>
          <a:stretch/>
        </p:blipFill>
        <p:spPr>
          <a:xfrm>
            <a:off x="1219320" y="48006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worried"/>
          <p:cNvPicPr/>
          <p:nvPr/>
        </p:nvPicPr>
        <p:blipFill>
          <a:blip r:embed="rId5"/>
          <a:stretch/>
        </p:blipFill>
        <p:spPr>
          <a:xfrm>
            <a:off x="5715000" y="1905120"/>
            <a:ext cx="5731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Nationalités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800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anglais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La reine Élizabeth est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anglaise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rançais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italien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Nicolas est français et Carla est italienne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maori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néo-zélandais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Winston est maori - il est aussi néo-zélandais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espagno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Et Pene est espagnole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1" name="Picture 4" descr="Queen Elizabeth"/>
          <p:cNvPicPr/>
          <p:nvPr/>
        </p:nvPicPr>
        <p:blipFill>
          <a:blip r:embed="rId1"/>
          <a:stretch/>
        </p:blipFill>
        <p:spPr>
          <a:xfrm>
            <a:off x="2589120" y="1676520"/>
            <a:ext cx="104616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sarkozy et carla"/>
          <p:cNvPicPr/>
          <p:nvPr/>
        </p:nvPicPr>
        <p:blipFill>
          <a:blip r:embed="rId2"/>
          <a:stretch/>
        </p:blipFill>
        <p:spPr>
          <a:xfrm>
            <a:off x="6172200" y="2514600"/>
            <a:ext cx="1209600" cy="941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Winston P"/>
          <p:cNvPicPr/>
          <p:nvPr/>
        </p:nvPicPr>
        <p:blipFill>
          <a:blip r:embed="rId3"/>
          <a:stretch/>
        </p:blipFill>
        <p:spPr>
          <a:xfrm>
            <a:off x="7086600" y="3809880"/>
            <a:ext cx="762120" cy="1003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pene cruz"/>
          <p:cNvPicPr/>
          <p:nvPr/>
        </p:nvPicPr>
        <p:blipFill>
          <a:blip r:embed="rId4"/>
          <a:stretch/>
        </p:blipFill>
        <p:spPr>
          <a:xfrm>
            <a:off x="4876920" y="5029200"/>
            <a:ext cx="10746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ette fille habite à Nouméa - elle est néo-calédonienn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t cette fille et ce garçon habitent à Tahiti - ils sont tahitiens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59" name="Picture 4" descr="New Cal girl"/>
          <p:cNvPicPr/>
          <p:nvPr/>
        </p:nvPicPr>
        <p:blipFill>
          <a:blip r:embed="rId1"/>
          <a:stretch/>
        </p:blipFill>
        <p:spPr>
          <a:xfrm>
            <a:off x="4038480" y="2590920"/>
            <a:ext cx="995400" cy="995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Tahitian dancers"/>
          <p:cNvPicPr/>
          <p:nvPr/>
        </p:nvPicPr>
        <p:blipFill>
          <a:blip r:embed="rId2"/>
          <a:stretch/>
        </p:blipFill>
        <p:spPr>
          <a:xfrm>
            <a:off x="4114800" y="4343400"/>
            <a:ext cx="7700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Adjectifs divers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âgé  Bart est un garçon âgé de dix ans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bêt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l est bête - vraiment stupide,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même ridicule!!!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blanc/blanch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a Maison Blanche est une maison blanch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bleu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a mer est bleue à Moorea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49" name="Picture 4" descr="bart"/>
          <p:cNvPicPr/>
          <p:nvPr/>
        </p:nvPicPr>
        <p:blipFill>
          <a:blip r:embed="rId1"/>
          <a:stretch/>
        </p:blipFill>
        <p:spPr>
          <a:xfrm>
            <a:off x="7620120" y="1828800"/>
            <a:ext cx="954000" cy="95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white house"/>
          <p:cNvPicPr/>
          <p:nvPr/>
        </p:nvPicPr>
        <p:blipFill>
          <a:blip r:embed="rId2"/>
          <a:stretch/>
        </p:blipFill>
        <p:spPr>
          <a:xfrm>
            <a:off x="4419720" y="3200400"/>
            <a:ext cx="1120680" cy="895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moorea"/>
          <p:cNvPicPr/>
          <p:nvPr/>
        </p:nvPicPr>
        <p:blipFill>
          <a:blip r:embed="rId3"/>
          <a:stretch/>
        </p:blipFill>
        <p:spPr>
          <a:xfrm>
            <a:off x="6019920" y="4800600"/>
            <a:ext cx="167616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t des animaux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e chien n’est pas vraiment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méchant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Il est mignon, n’est-ce pas?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65" name="Picture 5" descr="chien méchant"/>
          <p:cNvPicPr/>
          <p:nvPr/>
        </p:nvPicPr>
        <p:blipFill>
          <a:blip r:embed="rId1"/>
          <a:stretch/>
        </p:blipFill>
        <p:spPr>
          <a:xfrm>
            <a:off x="1014480" y="1981080"/>
            <a:ext cx="315108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e chat est adorable - il est très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doux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et toujours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content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0" name="Picture 5" descr="chat 6"/>
          <p:cNvPicPr/>
          <p:nvPr/>
        </p:nvPicPr>
        <p:blipFill>
          <a:blip r:embed="rId1"/>
          <a:stretch/>
        </p:blipFill>
        <p:spPr>
          <a:xfrm>
            <a:off x="685800" y="2295360"/>
            <a:ext cx="3809880" cy="34862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des choses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plein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e verre est plein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vid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t ce verre est vid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grav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’était un accident grave.  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affreux / affreuse - En fait, c’était affreux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blessé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mort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Le motocycliste était blessé, mais n’est pas mort.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dangereux / dangereus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Ma mère pense que les motos sont dangereuses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5" name="Picture 4" descr="full glass"/>
          <p:cNvPicPr/>
          <p:nvPr/>
        </p:nvPicPr>
        <p:blipFill>
          <a:blip r:embed="rId1"/>
          <a:stretch/>
        </p:blipFill>
        <p:spPr>
          <a:xfrm>
            <a:off x="6019920" y="1752480"/>
            <a:ext cx="636480" cy="1047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empty glass 2"/>
          <p:cNvPicPr/>
          <p:nvPr/>
        </p:nvPicPr>
        <p:blipFill>
          <a:blip r:embed="rId2"/>
          <a:stretch/>
        </p:blipFill>
        <p:spPr>
          <a:xfrm>
            <a:off x="7238880" y="2057400"/>
            <a:ext cx="663840" cy="1138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accident"/>
          <p:cNvPicPr/>
          <p:nvPr/>
        </p:nvPicPr>
        <p:blipFill>
          <a:blip r:embed="rId3"/>
          <a:stretch/>
        </p:blipFill>
        <p:spPr>
          <a:xfrm>
            <a:off x="2209680" y="3200400"/>
            <a:ext cx="9414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délicieux / délicieus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e gâteau était délicieux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ntéressant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’est un livre intéressant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facile   Pour moi, le français, c’est facile!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difficile  Mais la physique, c’est difficile!!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nsupportable  Et je déteste le dessin - c’est insupportable!!!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82" name="Picture 4" descr="gateau d'ann"/>
          <p:cNvPicPr/>
          <p:nvPr/>
        </p:nvPicPr>
        <p:blipFill>
          <a:blip r:embed="rId1"/>
          <a:stretch/>
        </p:blipFill>
        <p:spPr>
          <a:xfrm>
            <a:off x="6095880" y="2057400"/>
            <a:ext cx="1121040" cy="833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dumas 2"/>
          <p:cNvPicPr/>
          <p:nvPr/>
        </p:nvPicPr>
        <p:blipFill>
          <a:blip r:embed="rId2"/>
          <a:stretch/>
        </p:blipFill>
        <p:spPr>
          <a:xfrm>
            <a:off x="5791320" y="3124080"/>
            <a:ext cx="734760" cy="11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bon / bonn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a Graine et le Mulet est un bon film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mauvais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nnuyeux -eus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Un mauvais élève reçoit trop de “NA”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Souvent, il dit que tout est ennuyeux!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88" name="Picture 4" descr="200px-La_Graine_et_le_Mulet"/>
          <p:cNvPicPr/>
          <p:nvPr/>
        </p:nvPicPr>
        <p:blipFill>
          <a:blip r:embed="rId1"/>
          <a:stretch/>
        </p:blipFill>
        <p:spPr>
          <a:xfrm>
            <a:off x="6781680" y="1905120"/>
            <a:ext cx="1238400" cy="1695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bored"/>
          <p:cNvPicPr/>
          <p:nvPr/>
        </p:nvPicPr>
        <p:blipFill>
          <a:blip r:embed="rId2"/>
          <a:stretch/>
        </p:blipFill>
        <p:spPr>
          <a:xfrm>
            <a:off x="7010280" y="4952880"/>
            <a:ext cx="5731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4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9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572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vrai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On peut y croire - c’est vrai!!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faux / fauss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e n’est pas vrai - c’est faux!!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possibl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mpossibl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Non, ce n’est pas possible; c’est impossible!!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mportant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Le français, c’est une matière importante!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94" name="Picture 4" descr="angelic"/>
          <p:cNvPicPr/>
          <p:nvPr/>
        </p:nvPicPr>
        <p:blipFill>
          <a:blip r:embed="rId1"/>
          <a:stretch/>
        </p:blipFill>
        <p:spPr>
          <a:xfrm>
            <a:off x="6553080" y="17524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sapproval2"/>
          <p:cNvPicPr/>
          <p:nvPr/>
        </p:nvPicPr>
        <p:blipFill>
          <a:blip r:embed="rId2"/>
          <a:stretch/>
        </p:blipFill>
        <p:spPr>
          <a:xfrm>
            <a:off x="6705720" y="38862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es voitures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ette voiture a la réputation d’être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confortabl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et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rapid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ette voiture est assez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lent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- elle n’est pas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vit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!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200" name="Picture 8" descr="comfy car"/>
          <p:cNvPicPr/>
          <p:nvPr/>
        </p:nvPicPr>
        <p:blipFill>
          <a:blip r:embed="rId1"/>
          <a:stretch/>
        </p:blipFill>
        <p:spPr>
          <a:xfrm>
            <a:off x="1276200" y="1981080"/>
            <a:ext cx="262908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201" name="Picture 9" descr="2cv 1"/>
          <p:cNvPicPr/>
          <p:nvPr/>
        </p:nvPicPr>
        <p:blipFill>
          <a:blip r:embed="rId2"/>
          <a:stretch/>
        </p:blipFill>
        <p:spPr>
          <a:xfrm>
            <a:off x="1103400" y="4114800"/>
            <a:ext cx="297324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Verdana"/>
              </a:rPr>
              <a:t>Dimensions et poids</a:t>
            </a:r>
            <a:endParaRPr b="1" lang="en-US" sz="36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495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énorm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es bâtiments à Dubai sont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énormes!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haut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e sont les plus hauts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bâtiments du monde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arg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Mais ils ne sont pas larges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éger / légèr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ette plume est légère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ourd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e colis est lourd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206" name="Picture 4" descr="Dubai skyscrapers"/>
          <p:cNvPicPr/>
          <p:nvPr/>
        </p:nvPicPr>
        <p:blipFill>
          <a:blip r:embed="rId1"/>
          <a:stretch/>
        </p:blipFill>
        <p:spPr>
          <a:xfrm>
            <a:off x="2606760" y="1752480"/>
            <a:ext cx="1225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light feather"/>
          <p:cNvPicPr/>
          <p:nvPr/>
        </p:nvPicPr>
        <p:blipFill>
          <a:blip r:embed="rId2"/>
          <a:stretch/>
        </p:blipFill>
        <p:spPr>
          <a:xfrm>
            <a:off x="3352680" y="3962520"/>
            <a:ext cx="1209960" cy="653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heavy"/>
          <p:cNvPicPr/>
          <p:nvPr/>
        </p:nvPicPr>
        <p:blipFill>
          <a:blip r:embed="rId3"/>
          <a:stretch/>
        </p:blipFill>
        <p:spPr>
          <a:xfrm>
            <a:off x="2438280" y="4572000"/>
            <a:ext cx="6987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Mots utiles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occupé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Zut! C’est occupé!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ibr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C’est libre - vous pouvez 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entrer.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gratuit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’est gratuit - ça ne coûte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rien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213" name="Picture 4" descr="occupé"/>
          <p:cNvPicPr/>
          <p:nvPr/>
        </p:nvPicPr>
        <p:blipFill>
          <a:blip r:embed="rId1"/>
          <a:stretch/>
        </p:blipFill>
        <p:spPr>
          <a:xfrm>
            <a:off x="2514600" y="182880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libre"/>
          <p:cNvPicPr/>
          <p:nvPr/>
        </p:nvPicPr>
        <p:blipFill>
          <a:blip r:embed="rId2"/>
          <a:stretch/>
        </p:blipFill>
        <p:spPr>
          <a:xfrm>
            <a:off x="2743200" y="3048120"/>
            <a:ext cx="797040" cy="110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gratuit"/>
          <p:cNvPicPr/>
          <p:nvPr/>
        </p:nvPicPr>
        <p:blipFill>
          <a:blip r:embed="rId3"/>
          <a:stretch/>
        </p:blipFill>
        <p:spPr>
          <a:xfrm>
            <a:off x="2666880" y="4648320"/>
            <a:ext cx="104004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haqu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haque année, on va à Waihi pour les vacances; on y va tous les ans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autr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Je n’aime pas ce T-shirt - vous avez un autre?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out   toute   tous   toutes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tout le monde, toute la classe, tous les jours, toutes les filles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7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2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7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Les cheveux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Angelina est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brune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, mais Shiloh est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blonde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Rupert est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roux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56" name="Picture 6" descr="ange &amp; shiloh"/>
          <p:cNvPicPr/>
          <p:nvPr/>
        </p:nvPicPr>
        <p:blipFill>
          <a:blip r:embed="rId1"/>
          <a:stretch/>
        </p:blipFill>
        <p:spPr>
          <a:xfrm>
            <a:off x="1679400" y="1981080"/>
            <a:ext cx="182088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57" name="Picture 7" descr="moi"/>
          <p:cNvPicPr/>
          <p:nvPr/>
        </p:nvPicPr>
        <p:blipFill>
          <a:blip r:embed="rId2"/>
          <a:stretch/>
        </p:blipFill>
        <p:spPr>
          <a:xfrm>
            <a:off x="1944720" y="4114800"/>
            <a:ext cx="129060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Quand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prochain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premier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’année prochaine, je vais être en Premièr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John Key est notre Premier Ministr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dernier / dernièr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’année dernière, j’étais en Troisièm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e dernier Premier Ministre d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a NZ était Helen Clark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224" name="Picture 4" descr="John Key"/>
          <p:cNvPicPr/>
          <p:nvPr/>
        </p:nvPicPr>
        <p:blipFill>
          <a:blip r:embed="rId1"/>
          <a:stretch/>
        </p:blipFill>
        <p:spPr>
          <a:xfrm>
            <a:off x="6858000" y="2895480"/>
            <a:ext cx="1120680" cy="1040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helen clark"/>
          <p:cNvPicPr/>
          <p:nvPr/>
        </p:nvPicPr>
        <p:blipFill>
          <a:blip r:embed="rId2"/>
          <a:stretch/>
        </p:blipFill>
        <p:spPr>
          <a:xfrm>
            <a:off x="6553080" y="4800600"/>
            <a:ext cx="897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Jamel a les cheveux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noirs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Sean a les cheveux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gris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(et pas beaucoup!) et une barbe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gris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et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blanch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62" name="Picture 9" descr="jamel"/>
          <p:cNvPicPr/>
          <p:nvPr/>
        </p:nvPicPr>
        <p:blipFill>
          <a:blip r:embed="rId1"/>
          <a:stretch/>
        </p:blipFill>
        <p:spPr>
          <a:xfrm>
            <a:off x="5935680" y="1981080"/>
            <a:ext cx="123516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63" name="Picture 10" descr="grandfather"/>
          <p:cNvPicPr/>
          <p:nvPr/>
        </p:nvPicPr>
        <p:blipFill>
          <a:blip r:embed="rId2"/>
          <a:stretch/>
        </p:blipFill>
        <p:spPr>
          <a:xfrm>
            <a:off x="5892840" y="4114800"/>
            <a:ext cx="131904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Voici Reese avec les cheveux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longs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et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blonds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...et ici, toujours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blonds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, mais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courts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68" name="Picture 6" descr="Reese long hair"/>
          <p:cNvPicPr/>
          <p:nvPr/>
        </p:nvPicPr>
        <p:blipFill>
          <a:blip r:embed="rId1"/>
          <a:stretch/>
        </p:blipFill>
        <p:spPr>
          <a:xfrm>
            <a:off x="5889600" y="1981080"/>
            <a:ext cx="1325520" cy="1981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pic>
        <p:nvPicPr>
          <p:cNvPr id="69" name="Picture 7" descr="Reese short hair"/>
          <p:cNvPicPr/>
          <p:nvPr/>
        </p:nvPicPr>
        <p:blipFill>
          <a:blip r:embed="rId2"/>
          <a:stretch/>
        </p:blipFill>
        <p:spPr>
          <a:xfrm>
            <a:off x="5562720" y="4114800"/>
            <a:ext cx="1981080" cy="1981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Et ici, Reese a les cheveux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bruns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 et mi-longs!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Elle aime changer son style!!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74" name="Picture 6" descr="Reese brown hair"/>
          <p:cNvPicPr/>
          <p:nvPr/>
        </p:nvPicPr>
        <p:blipFill>
          <a:blip r:embed="rId1"/>
          <a:stretch/>
        </p:blipFill>
        <p:spPr>
          <a:xfrm>
            <a:off x="685800" y="2066760"/>
            <a:ext cx="3809880" cy="39434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Brad et Angelina sont un couple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Verdana"/>
              </a:rPr>
              <a:t>chic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79" name="Picture 5" descr="brad &amp; ange"/>
          <p:cNvPicPr/>
          <p:nvPr/>
        </p:nvPicPr>
        <p:blipFill>
          <a:blip r:embed="rId1"/>
          <a:stretch/>
        </p:blipFill>
        <p:spPr>
          <a:xfrm>
            <a:off x="4836960" y="1981080"/>
            <a:ext cx="34308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d’autres couleurs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jaune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es bananes sont jaunes.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marron (inv)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es chaussures sont marron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ros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lle porte une robe ros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roug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Les tomates sont rouges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vert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C’est un arbre vert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4" name="Picture 5" descr="bananes"/>
          <p:cNvPicPr/>
          <p:nvPr/>
        </p:nvPicPr>
        <p:blipFill>
          <a:blip r:embed="rId1"/>
          <a:stretch/>
        </p:blipFill>
        <p:spPr>
          <a:xfrm>
            <a:off x="5410080" y="1981080"/>
            <a:ext cx="573120" cy="573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baskets"/>
          <p:cNvPicPr/>
          <p:nvPr/>
        </p:nvPicPr>
        <p:blipFill>
          <a:blip r:embed="rId2"/>
          <a:stretch/>
        </p:blipFill>
        <p:spPr>
          <a:xfrm>
            <a:off x="7315200" y="2743200"/>
            <a:ext cx="811080" cy="81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obe rose"/>
          <p:cNvPicPr/>
          <p:nvPr/>
        </p:nvPicPr>
        <p:blipFill>
          <a:blip r:embed="rId3"/>
          <a:stretch/>
        </p:blipFill>
        <p:spPr>
          <a:xfrm>
            <a:off x="5181480" y="3657600"/>
            <a:ext cx="590760" cy="1138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tomates"/>
          <p:cNvPicPr/>
          <p:nvPr/>
        </p:nvPicPr>
        <p:blipFill>
          <a:blip r:embed="rId4"/>
          <a:stretch/>
        </p:blipFill>
        <p:spPr>
          <a:xfrm>
            <a:off x="6400800" y="4419720"/>
            <a:ext cx="725400" cy="725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arbre vert"/>
          <p:cNvPicPr/>
          <p:nvPr/>
        </p:nvPicPr>
        <p:blipFill>
          <a:blip r:embed="rId5"/>
          <a:stretch/>
        </p:blipFill>
        <p:spPr>
          <a:xfrm>
            <a:off x="7315200" y="4876920"/>
            <a:ext cx="86040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Descriptions de gens...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intelligent - </a:t>
            </a: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Les élèves de ma classe sont intelligents.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ympathique  (sympa - inv)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Verdana"/>
              </a:rPr>
              <a:t>Ma tante est sympa - elle me donne des cadeaux!</a:t>
            </a: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cher / chère    Cher John,.... Chère Marie,..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aible - Je suis faible en maths - c’est dur!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rt - Je suis fort en anglais - c’est facile!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poli - Les garçons de Dilworth sont polis.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impoli - Ils sont rarement impolis!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20:45:52Z</dcterms:created>
  <dc:creator>IT Dept</dc:creator>
  <dc:description/>
  <dc:language>en-US</dc:language>
  <cp:lastModifiedBy>scollett</cp:lastModifiedBy>
  <dcterms:modified xsi:type="dcterms:W3CDTF">2010-08-23T01:33:59Z</dcterms:modified>
  <cp:revision>16</cp:revision>
  <dc:subject/>
  <dc:title>NCEA Niveau 1</dc:title>
</cp:coreProperties>
</file>